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BFA4-FD56-4729-827C-8029E29DF950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Pri otvorení obrázka v IrfanView je animova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8AD-02D9-44AB-BDE5-6C1E9CED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148-3DF1-4BFF-8A95-117DA285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FED-2D35-40A1-B361-B20AC88C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84D-1B6C-46F8-BBC3-ADB070EA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D40E-8B76-4E7F-84D2-16925AC6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95A3-4442-49E5-A0EE-61C62A44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99D1-BB29-4D85-992D-B0CB1E67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4F23-B082-4ABC-A5FE-9D09E6FA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D903-E8B8-4BDE-BB8D-D76D5F26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5298-664E-418F-BA6B-3B762651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8AEA-6AD1-4A30-B3FC-D8BF8277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77F-5B08-40BF-83AE-20EF9865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2D19-6433-49FE-A081-D7F6B127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D900-5C33-45AE-B0FD-69F2C68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888D-1B0C-4FA4-9A35-16A3235E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352E-D5CD-49DB-A7A8-0E1F065A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20F4-682B-41F1-8951-C9605B3B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BCD-6381-4BA2-97E3-BF5174FA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0C4-B5AB-4A94-8FCD-7B2367C0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DAC-0804-47B9-8D33-09EEEF6E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00F-30E1-4F5A-87A4-8841D5A0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080-A1BD-42AA-B0C1-0EF7CA1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AF3-4A1F-4B49-8F80-27720DB0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A7F-EA6B-4DB0-9DAD-65BD713C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D698-BE3E-4951-9368-A91A34DE13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4EBF-93D0-4576-A134-09B7FB5B53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holografia.doc" TargetMode="Externa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Verdana"/>
              </a:rPr>
              <a:t>Elektrónový obal atóm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y atóm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Stimulovaná emi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Modely atóm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3720" y="1752480"/>
            <a:ext cx="717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441440"/>
                <a:tab algn="l" pos="2882880"/>
                <a:tab algn="l" pos="4324320"/>
                <a:tab algn="l" pos="5765760"/>
                <a:tab algn="l" pos="7207200"/>
                <a:tab algn="l" pos="8648640"/>
                <a:tab algn="l" pos="1009008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atóm = ďalej nedeliteľný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sk-SK" sz="2600" spc="-1" strike="noStrike">
                <a:solidFill>
                  <a:srgbClr val="000000"/>
                </a:solidFill>
                <a:latin typeface="Verdana"/>
              </a:rPr>
              <a:t>(Demokri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441440"/>
                <a:tab algn="l" pos="2882880"/>
                <a:tab algn="l" pos="4324320"/>
                <a:tab algn="l" pos="5765760"/>
                <a:tab algn="l" pos="7207200"/>
                <a:tab algn="l" pos="8648640"/>
                <a:tab algn="l" pos="1009008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441440"/>
                <a:tab algn="l" pos="2882880"/>
                <a:tab algn="l" pos="4324320"/>
                <a:tab algn="l" pos="5765760"/>
                <a:tab algn="l" pos="7207200"/>
                <a:tab algn="l" pos="8648640"/>
                <a:tab algn="l" pos="1009008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objav elektrónu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sk-SK" sz="2600" spc="-1" strike="noStrike">
                <a:solidFill>
                  <a:srgbClr val="000000"/>
                </a:solidFill>
                <a:latin typeface="Verdana"/>
              </a:rPr>
              <a:t>(J.J.Thomson)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pudingový model atóm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068560" indent="-436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882880"/>
                <a:tab algn="l" pos="4324320"/>
                <a:tab algn="l" pos="5765760"/>
                <a:tab algn="l" pos="7207200"/>
                <a:tab algn="l" pos="8648640"/>
                <a:tab algn="l" pos="1009008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kladná hmota (puding) rovnomerne v celom objeme predstavuje takmer celú hmotnosť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2068560" indent="-436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882880"/>
                <a:tab algn="l" pos="4324320"/>
                <a:tab algn="l" pos="5765760"/>
                <a:tab algn="l" pos="7207200"/>
                <a:tab algn="l" pos="8648640"/>
                <a:tab algn="l" pos="1009008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elektróny = nehybné hrozienka na puding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92720" y="2881440"/>
                <a:ext cx="2576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1606680" cy="1857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453440" y="3933720"/>
            <a:ext cx="1619280" cy="1536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7520" y="4130640"/>
            <a:ext cx="2084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Modely atómu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609200"/>
            <a:ext cx="626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objav atómového jadra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rnest Rutherfor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ostreľovanie zlatej 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fólie alfa žiarením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očakávanie 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odklon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1°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skutočnosť aj viac 90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planetárny model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(Slnko = jadro, planéty = elektrón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86640" y="1557360"/>
            <a:ext cx="23079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25767" t="35881" r="40016" b="20180"/>
          <a:stretch/>
        </p:blipFill>
        <p:spPr>
          <a:xfrm>
            <a:off x="3894120" y="2394000"/>
            <a:ext cx="2736720" cy="1876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3127320"/>
            <a:ext cx="33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micro.magnet.fsu.edu/electromag/java/rutherfor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4221000"/>
            <a:ext cx="2304360" cy="1008000"/>
            <a:chOff x="3059280" y="4221000"/>
            <a:chExt cx="2304360" cy="1008000"/>
          </a:xfrm>
        </p:grpSpPr>
        <p:sp>
          <p:nvSpPr>
            <p:cNvPr id="106" name=""/>
            <p:cNvSpPr/>
            <p:nvPr/>
          </p:nvSpPr>
          <p:spPr>
            <a:xfrm>
              <a:off x="3684240" y="4330440"/>
              <a:ext cx="926640" cy="898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733280" y="4703400"/>
              <a:ext cx="6188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85920" y="4221000"/>
              <a:ext cx="1677600" cy="484200"/>
            </a:xfrm>
            <a:custGeom>
              <a:avLst/>
              <a:gdLst/>
              <a:ahLst/>
              <a:rect l="l" t="t" r="r" b="b"/>
              <a:pathLst>
                <a:path w="3282" h="976">
                  <a:moveTo>
                    <a:pt x="3282" y="972"/>
                  </a:moveTo>
                  <a:cubicBezTo>
                    <a:pt x="3213" y="972"/>
                    <a:pt x="3014" y="976"/>
                    <a:pt x="2868" y="972"/>
                  </a:cubicBezTo>
                  <a:cubicBezTo>
                    <a:pt x="2722" y="968"/>
                    <a:pt x="2569" y="972"/>
                    <a:pt x="2406" y="948"/>
                  </a:cubicBezTo>
                  <a:cubicBezTo>
                    <a:pt x="2243" y="924"/>
                    <a:pt x="2048" y="875"/>
                    <a:pt x="1890" y="828"/>
                  </a:cubicBezTo>
                  <a:cubicBezTo>
                    <a:pt x="1732" y="781"/>
                    <a:pt x="1603" y="726"/>
                    <a:pt x="1458" y="666"/>
                  </a:cubicBezTo>
                  <a:cubicBezTo>
                    <a:pt x="1313" y="606"/>
                    <a:pt x="1263" y="579"/>
                    <a:pt x="1020" y="468"/>
                  </a:cubicBezTo>
                  <a:cubicBezTo>
                    <a:pt x="777" y="357"/>
                    <a:pt x="212" y="97"/>
                    <a:pt x="0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7920" y="4678200"/>
              <a:ext cx="45720" cy="428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059280" y="4705200"/>
              <a:ext cx="1437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73920" y="437328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Verdana"/>
                </a:rPr>
                <a:t>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19640" y="4797360"/>
            <a:ext cx="2521080" cy="1725480"/>
            <a:chOff x="5219640" y="4797360"/>
            <a:chExt cx="2521080" cy="1725480"/>
          </a:xfrm>
        </p:grpSpPr>
        <p:grpSp>
          <p:nvGrpSpPr>
            <p:cNvPr id="113" name=""/>
            <p:cNvGrpSpPr/>
            <p:nvPr/>
          </p:nvGrpSpPr>
          <p:grpSpPr>
            <a:xfrm>
              <a:off x="5219640" y="4797360"/>
              <a:ext cx="2521080" cy="1725480"/>
              <a:chOff x="5219640" y="4797360"/>
              <a:chExt cx="2521080" cy="1725480"/>
            </a:xfrm>
          </p:grpSpPr>
          <p:sp>
            <p:nvSpPr>
              <p:cNvPr id="114" name=""/>
              <p:cNvSpPr/>
              <p:nvPr/>
            </p:nvSpPr>
            <p:spPr>
              <a:xfrm>
                <a:off x="5904000" y="5184720"/>
                <a:ext cx="1014480" cy="9810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5219640" y="5676840"/>
                <a:ext cx="15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84960" y="5644800"/>
                <a:ext cx="63360" cy="6192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5493600" y="4830480"/>
                <a:ext cx="1930680" cy="169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36" y="1059"/>
                    </a:moveTo>
                    <a:arcTo wR="10800" hR="10800" stAng="-6935228" swAng="69352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36" y="1059"/>
                    </a:moveTo>
                    <a:arcTo wR="10800" hR="10800" stAng="-6935228" swAng="6935228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80360" y="4797360"/>
                <a:ext cx="1220760" cy="877680"/>
              </a:xfrm>
              <a:custGeom>
                <a:avLst/>
                <a:gdLst/>
                <a:ahLst/>
                <a:rect l="l" t="t" r="r" b="b"/>
                <a:pathLst>
                  <a:path w="2229" h="1625">
                    <a:moveTo>
                      <a:pt x="2229" y="1620"/>
                    </a:moveTo>
                    <a:cubicBezTo>
                      <a:pt x="1586" y="1622"/>
                      <a:pt x="944" y="1625"/>
                      <a:pt x="617" y="1624"/>
                    </a:cubicBezTo>
                    <a:cubicBezTo>
                      <a:pt x="290" y="1623"/>
                      <a:pt x="350" y="1617"/>
                      <a:pt x="269" y="1612"/>
                    </a:cubicBezTo>
                    <a:cubicBezTo>
                      <a:pt x="188" y="1607"/>
                      <a:pt x="164" y="1603"/>
                      <a:pt x="129" y="1596"/>
                    </a:cubicBezTo>
                    <a:cubicBezTo>
                      <a:pt x="94" y="1589"/>
                      <a:pt x="75" y="1580"/>
                      <a:pt x="57" y="1568"/>
                    </a:cubicBezTo>
                    <a:cubicBezTo>
                      <a:pt x="39" y="1556"/>
                      <a:pt x="30" y="1543"/>
                      <a:pt x="21" y="1524"/>
                    </a:cubicBezTo>
                    <a:cubicBezTo>
                      <a:pt x="12" y="1505"/>
                      <a:pt x="0" y="1484"/>
                      <a:pt x="1" y="1452"/>
                    </a:cubicBezTo>
                    <a:cubicBezTo>
                      <a:pt x="2" y="1420"/>
                      <a:pt x="4" y="1388"/>
                      <a:pt x="29" y="1332"/>
                    </a:cubicBezTo>
                    <a:cubicBezTo>
                      <a:pt x="54" y="1276"/>
                      <a:pt x="52" y="1278"/>
                      <a:pt x="153" y="1116"/>
                    </a:cubicBezTo>
                    <a:cubicBezTo>
                      <a:pt x="254" y="954"/>
                      <a:pt x="522" y="546"/>
                      <a:pt x="637" y="360"/>
                    </a:cubicBezTo>
                    <a:cubicBezTo>
                      <a:pt x="752" y="174"/>
                      <a:pt x="798" y="87"/>
                      <a:pt x="8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89960" y="5649840"/>
                <a:ext cx="50760" cy="46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42000" y="5013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Verdana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Modely atómu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6877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Kvantovanie  energie (N. Boh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Elektróny v obale atómu sa pohybujú iba po dovolených kružniciach s presne určenou energi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Pri prechode z jednej kružnice ne druhú vyžiari (pohltí) fotón </a:t>
            </a:r>
            <a:r>
              <a:rPr b="0" i="1" lang="sk-SK" sz="2200" spc="-1" strike="noStrike">
                <a:solidFill>
                  <a:srgbClr val="000000"/>
                </a:solidFill>
                <a:latin typeface="Verdana"/>
              </a:rPr>
              <a:t>h.f</a:t>
            </a:r>
            <a:r>
              <a:rPr b="0" i="1" lang="sk-SK" sz="2200" spc="-1" strike="noStrike" baseline="-25000">
                <a:solidFill>
                  <a:srgbClr val="000000"/>
                </a:solidFill>
                <a:latin typeface="Verdana"/>
              </a:rPr>
              <a:t>nm</a:t>
            </a:r>
            <a:r>
              <a:rPr b="0" i="1" lang="sk-SK" sz="2200" spc="-1" strike="noStrike">
                <a:solidFill>
                  <a:srgbClr val="000000"/>
                </a:solidFill>
                <a:latin typeface="Verdana"/>
              </a:rPr>
              <a:t>= -E</a:t>
            </a:r>
            <a:r>
              <a:rPr b="0" i="1" lang="sk-SK" sz="22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i="1" lang="sk-SK" sz="22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sk-SK" sz="22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sk-SK" sz="22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Emisia - pri preskoku na hladinu s nižšou energiou </a:t>
            </a:r>
            <a:r>
              <a:rPr b="0" i="1" lang="sk-SK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sk-SK" sz="2100" spc="-1" strike="noStrike" baseline="-25000">
                <a:solidFill>
                  <a:srgbClr val="000000"/>
                </a:solidFill>
                <a:latin typeface="Verdana"/>
              </a:rPr>
              <a:t>m  </a:t>
            </a: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je energia vyžiarená vo forme fotón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Absorpcia - pri preskoku na hladinu s vyššou energiou </a:t>
            </a:r>
            <a:r>
              <a:rPr b="0" i="1" lang="sk-SK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sk-SK" sz="21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elektrón energiu fotónu pohlt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5400" y="476280"/>
            <a:ext cx="2200320" cy="31050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6577200" y="3573360"/>
            <a:ext cx="2406240" cy="2421000"/>
            <a:chOff x="6577200" y="3573360"/>
            <a:chExt cx="2406240" cy="2421000"/>
          </a:xfrm>
        </p:grpSpPr>
        <p:sp>
          <p:nvSpPr>
            <p:cNvPr id="125" name=""/>
            <p:cNvSpPr/>
            <p:nvPr/>
          </p:nvSpPr>
          <p:spPr>
            <a:xfrm>
              <a:off x="7628040" y="3573360"/>
              <a:ext cx="37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k-SK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0" i="1" lang="sk-SK" sz="1800" spc="-1" strike="noStrike" baseline="-25000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577200" y="3781440"/>
              <a:ext cx="2406240" cy="2212920"/>
              <a:chOff x="6577200" y="3781440"/>
              <a:chExt cx="2406240" cy="221292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723000" y="3933720"/>
                <a:ext cx="2260440" cy="2060640"/>
                <a:chOff x="6723000" y="3933720"/>
                <a:chExt cx="2260440" cy="2060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489800" y="4610880"/>
                  <a:ext cx="784800" cy="7156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158600" y="4318920"/>
                  <a:ext cx="1411560" cy="1286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723000" y="3933720"/>
                  <a:ext cx="2260440" cy="2060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8163000" y="3933720"/>
                <a:ext cx="71280" cy="71640"/>
              </a:xfrm>
              <a:prstGeom prst="ellipse">
                <a:avLst/>
              </a:prstGeom>
              <a:solidFill>
                <a:srgbClr val="00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89840" y="4294080"/>
                <a:ext cx="71280" cy="71640"/>
              </a:xfrm>
              <a:prstGeom prst="ellipse">
                <a:avLst/>
              </a:prstGeom>
              <a:solidFill>
                <a:srgbClr val="00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169840" y="4141800"/>
                <a:ext cx="41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k-SK" sz="1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r>
                  <a:rPr b="0" i="1" lang="sk-SK" sz="1800" spc="-1" strike="noStrike" baseline="-25000">
                    <a:solidFill>
                      <a:srgbClr val="000000"/>
                    </a:solidFill>
                    <a:latin typeface="Verdan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89520" y="4108320"/>
                <a:ext cx="1295640" cy="432000"/>
              </a:xfrm>
              <a:custGeom>
                <a:avLst/>
                <a:gdLst/>
                <a:ahLst/>
                <a:rect l="l" t="t" r="r" b="b"/>
                <a:pathLst>
                  <a:path w="1088" h="400">
                    <a:moveTo>
                      <a:pt x="0" y="347"/>
                    </a:moveTo>
                    <a:cubicBezTo>
                      <a:pt x="45" y="229"/>
                      <a:pt x="91" y="112"/>
                      <a:pt x="136" y="120"/>
                    </a:cubicBezTo>
                    <a:cubicBezTo>
                      <a:pt x="181" y="128"/>
                      <a:pt x="227" y="400"/>
                      <a:pt x="272" y="393"/>
                    </a:cubicBezTo>
                    <a:cubicBezTo>
                      <a:pt x="317" y="386"/>
                      <a:pt x="355" y="83"/>
                      <a:pt x="408" y="75"/>
                    </a:cubicBezTo>
                    <a:cubicBezTo>
                      <a:pt x="461" y="67"/>
                      <a:pt x="544" y="347"/>
                      <a:pt x="589" y="347"/>
                    </a:cubicBezTo>
                    <a:cubicBezTo>
                      <a:pt x="634" y="347"/>
                      <a:pt x="635" y="75"/>
                      <a:pt x="680" y="75"/>
                    </a:cubicBezTo>
                    <a:cubicBezTo>
                      <a:pt x="725" y="75"/>
                      <a:pt x="817" y="354"/>
                      <a:pt x="862" y="347"/>
                    </a:cubicBezTo>
                    <a:cubicBezTo>
                      <a:pt x="907" y="340"/>
                      <a:pt x="914" y="60"/>
                      <a:pt x="952" y="30"/>
                    </a:cubicBezTo>
                    <a:cubicBezTo>
                      <a:pt x="990" y="0"/>
                      <a:pt x="1039" y="83"/>
                      <a:pt x="1088" y="1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8018280" y="4005360"/>
                <a:ext cx="144720" cy="360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77200" y="3781440"/>
                <a:ext cx="71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k-SK" sz="1800" spc="-1" strike="noStrike">
                    <a:solidFill>
                      <a:srgbClr val="000000"/>
                    </a:solidFill>
                    <a:latin typeface="Verdana"/>
                  </a:rPr>
                  <a:t>fot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86440" y="4853160"/>
                <a:ext cx="216000" cy="215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29200" y="47498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8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Stimulovaná emis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628640"/>
            <a:ext cx="630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elektrón v excitovanom stave  je „oslovený“ fotónom s energiou +1,9eV, či nechce jeho energi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má dovolené iba niektoré „sedadlá“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ide o rad nižšie a vzdáva  sa energie +1,9eV, ktorú mal ponúknutú a tiež nadbytočnej energie -1,5eV-(-3,4)eV = +1,9eV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vyžiari dvojnásobok –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2 rovnaké fotóny (dvojčatá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3657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prvý rad s energiou -13,6eV je obsadený; druhý (-3,4eV), štvrtý     (-0,85eV) a ďalšie rady sú voľné, on je v treťom rade s energiou -1,5e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16680" y="1779480"/>
            <a:ext cx="1295640" cy="432000"/>
          </a:xfrm>
          <a:custGeom>
            <a:avLst/>
            <a:gdLst/>
            <a:ahLst/>
            <a:rect l="l" t="t" r="r" b="b"/>
            <a:pathLst>
              <a:path w="1088" h="400">
                <a:moveTo>
                  <a:pt x="0" y="347"/>
                </a:moveTo>
                <a:cubicBezTo>
                  <a:pt x="45" y="229"/>
                  <a:pt x="91" y="112"/>
                  <a:pt x="136" y="120"/>
                </a:cubicBezTo>
                <a:cubicBezTo>
                  <a:pt x="181" y="128"/>
                  <a:pt x="227" y="400"/>
                  <a:pt x="272" y="393"/>
                </a:cubicBezTo>
                <a:cubicBezTo>
                  <a:pt x="317" y="386"/>
                  <a:pt x="355" y="83"/>
                  <a:pt x="408" y="75"/>
                </a:cubicBezTo>
                <a:cubicBezTo>
                  <a:pt x="461" y="67"/>
                  <a:pt x="544" y="347"/>
                  <a:pt x="589" y="347"/>
                </a:cubicBezTo>
                <a:cubicBezTo>
                  <a:pt x="634" y="347"/>
                  <a:pt x="635" y="75"/>
                  <a:pt x="680" y="75"/>
                </a:cubicBezTo>
                <a:cubicBezTo>
                  <a:pt x="725" y="75"/>
                  <a:pt x="817" y="354"/>
                  <a:pt x="862" y="347"/>
                </a:cubicBezTo>
                <a:cubicBezTo>
                  <a:pt x="907" y="340"/>
                  <a:pt x="914" y="60"/>
                  <a:pt x="952" y="30"/>
                </a:cubicBezTo>
                <a:cubicBezTo>
                  <a:pt x="990" y="0"/>
                  <a:pt x="1039" y="83"/>
                  <a:pt x="1088" y="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40800" y="150192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Verdana"/>
              </a:rPr>
              <a:t>fo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80320" y="2138400"/>
            <a:ext cx="71280" cy="71280"/>
          </a:xfrm>
          <a:prstGeom prst="ellipse">
            <a:avLst/>
          </a:prstGeom>
          <a:solidFill>
            <a:srgbClr val="00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08640" y="1743120"/>
            <a:ext cx="2260800" cy="2452680"/>
            <a:chOff x="6308640" y="1743120"/>
            <a:chExt cx="2260800" cy="2452680"/>
          </a:xfrm>
        </p:grpSpPr>
        <p:sp>
          <p:nvSpPr>
            <p:cNvPr id="146" name=""/>
            <p:cNvSpPr/>
            <p:nvPr/>
          </p:nvSpPr>
          <p:spPr>
            <a:xfrm>
              <a:off x="7231320" y="1743120"/>
              <a:ext cx="37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k-SK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0" i="1" lang="sk-SK" sz="1800" spc="-1" strike="noStrike" baseline="-25000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308640" y="2130480"/>
              <a:ext cx="2260800" cy="2065320"/>
              <a:chOff x="6308640" y="2130480"/>
              <a:chExt cx="2260800" cy="2065320"/>
            </a:xfrm>
          </p:grpSpPr>
          <p:sp>
            <p:nvSpPr>
              <p:cNvPr id="148" name=""/>
              <p:cNvSpPr/>
              <p:nvPr/>
            </p:nvSpPr>
            <p:spPr>
              <a:xfrm>
                <a:off x="7157160" y="2130480"/>
                <a:ext cx="41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k-SK" sz="1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r>
                  <a:rPr b="0" i="1" lang="sk-SK" sz="1800" spc="-1" strike="noStrike" baseline="-25000">
                    <a:solidFill>
                      <a:srgbClr val="000000"/>
                    </a:solidFill>
                    <a:latin typeface="Verdan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6308640" y="2135160"/>
                <a:ext cx="2260800" cy="2060640"/>
                <a:chOff x="6308640" y="2135160"/>
                <a:chExt cx="2260800" cy="20606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075800" y="2812320"/>
                  <a:ext cx="784800" cy="7156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44600" y="2520360"/>
                  <a:ext cx="1411920" cy="1286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308640" y="2135160"/>
                  <a:ext cx="2260800" cy="2060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306560" y="2944800"/>
                <a:ext cx="311760" cy="368280"/>
                <a:chOff x="7306560" y="2944800"/>
                <a:chExt cx="311760" cy="368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364160" y="3048120"/>
                  <a:ext cx="216000" cy="21600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06560" y="294480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Verdana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" name=""/>
          <p:cNvSpPr/>
          <p:nvPr/>
        </p:nvSpPr>
        <p:spPr>
          <a:xfrm flipH="1">
            <a:off x="7722720" y="2198520"/>
            <a:ext cx="103320" cy="384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326280" y="2374560"/>
            <a:ext cx="1403280" cy="841680"/>
            <a:chOff x="6326280" y="2374560"/>
            <a:chExt cx="1403280" cy="841680"/>
          </a:xfrm>
        </p:grpSpPr>
        <p:sp>
          <p:nvSpPr>
            <p:cNvPr id="158" name=""/>
            <p:cNvSpPr/>
            <p:nvPr/>
          </p:nvSpPr>
          <p:spPr>
            <a:xfrm rot="20931600">
              <a:off x="6355440" y="2495520"/>
              <a:ext cx="1295280" cy="431640"/>
            </a:xfrm>
            <a:custGeom>
              <a:avLst/>
              <a:gdLst/>
              <a:ahLst/>
              <a:rect l="l" t="t" r="r" b="b"/>
              <a:pathLst>
                <a:path w="1088" h="400">
                  <a:moveTo>
                    <a:pt x="0" y="347"/>
                  </a:moveTo>
                  <a:cubicBezTo>
                    <a:pt x="45" y="229"/>
                    <a:pt x="91" y="112"/>
                    <a:pt x="136" y="120"/>
                  </a:cubicBezTo>
                  <a:cubicBezTo>
                    <a:pt x="181" y="128"/>
                    <a:pt x="227" y="400"/>
                    <a:pt x="272" y="393"/>
                  </a:cubicBezTo>
                  <a:cubicBezTo>
                    <a:pt x="317" y="386"/>
                    <a:pt x="355" y="83"/>
                    <a:pt x="408" y="75"/>
                  </a:cubicBezTo>
                  <a:cubicBezTo>
                    <a:pt x="461" y="67"/>
                    <a:pt x="544" y="347"/>
                    <a:pt x="589" y="347"/>
                  </a:cubicBezTo>
                  <a:cubicBezTo>
                    <a:pt x="634" y="347"/>
                    <a:pt x="635" y="75"/>
                    <a:pt x="680" y="75"/>
                  </a:cubicBezTo>
                  <a:cubicBezTo>
                    <a:pt x="725" y="75"/>
                    <a:pt x="817" y="354"/>
                    <a:pt x="862" y="347"/>
                  </a:cubicBezTo>
                  <a:cubicBezTo>
                    <a:pt x="907" y="340"/>
                    <a:pt x="914" y="60"/>
                    <a:pt x="952" y="30"/>
                  </a:cubicBezTo>
                  <a:cubicBezTo>
                    <a:pt x="990" y="0"/>
                    <a:pt x="1039" y="83"/>
                    <a:pt x="1088" y="1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931600">
              <a:off x="6404760" y="2663640"/>
              <a:ext cx="1294920" cy="431640"/>
            </a:xfrm>
            <a:custGeom>
              <a:avLst/>
              <a:gdLst/>
              <a:ahLst/>
              <a:rect l="l" t="t" r="r" b="b"/>
              <a:pathLst>
                <a:path w="1088" h="400">
                  <a:moveTo>
                    <a:pt x="0" y="347"/>
                  </a:moveTo>
                  <a:cubicBezTo>
                    <a:pt x="45" y="229"/>
                    <a:pt x="91" y="112"/>
                    <a:pt x="136" y="120"/>
                  </a:cubicBezTo>
                  <a:cubicBezTo>
                    <a:pt x="181" y="128"/>
                    <a:pt x="227" y="400"/>
                    <a:pt x="272" y="393"/>
                  </a:cubicBezTo>
                  <a:cubicBezTo>
                    <a:pt x="317" y="386"/>
                    <a:pt x="355" y="83"/>
                    <a:pt x="408" y="75"/>
                  </a:cubicBezTo>
                  <a:cubicBezTo>
                    <a:pt x="461" y="67"/>
                    <a:pt x="544" y="347"/>
                    <a:pt x="589" y="347"/>
                  </a:cubicBezTo>
                  <a:cubicBezTo>
                    <a:pt x="634" y="347"/>
                    <a:pt x="635" y="75"/>
                    <a:pt x="680" y="75"/>
                  </a:cubicBezTo>
                  <a:cubicBezTo>
                    <a:pt x="725" y="75"/>
                    <a:pt x="817" y="354"/>
                    <a:pt x="862" y="347"/>
                  </a:cubicBezTo>
                  <a:cubicBezTo>
                    <a:pt x="907" y="340"/>
                    <a:pt x="914" y="60"/>
                    <a:pt x="952" y="30"/>
                  </a:cubicBezTo>
                  <a:cubicBezTo>
                    <a:pt x="990" y="0"/>
                    <a:pt x="1039" y="83"/>
                    <a:pt x="1088" y="1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176880" y="18241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Verdana"/>
              </a:rPr>
              <a:t>fotó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92593E-006 C 0.01007 0.01111 0.02031 0.02222 0.0184 0.03101 C 0.01649 0.03981 -0.0099 0.04722 -0.01163 0.05323 C -0.01337 0.05925 -0.00261 0.06296 0.00833 0.06666 E">
                                      <p:cBhvr>
                                        <p:cTn id="16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Las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2565000"/>
            <a:ext cx="8569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Využit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na úpravu povrchu materiálov – napr. jemná očná chirurg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Verdana"/>
              </a:rPr>
              <a:t>priestorové premietanie – </a:t>
            </a:r>
            <a:r>
              <a:rPr b="0" lang="sk-SK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olograf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36680" indent="-4269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obraz (</a:t>
            </a:r>
            <a:r>
              <a:rPr b="0" lang="sk-SK" sz="21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hologram</a:t>
            </a:r>
            <a:r>
              <a:rPr b="0" lang="sk-SK" sz="2100" spc="-1" strike="noStrike">
                <a:solidFill>
                  <a:srgbClr val="000000"/>
                </a:solidFill>
                <a:latin typeface="Verdana"/>
              </a:rPr>
              <a:t>) sa získava na „tienidle“ skladaním priameho a odrazeného žiarenia lasera. Ožiarením tienidla laserom získame možnosť sledovať trojrozmerný obraz (rekonštrukcia obrazu) akoby cez okno z rôznych uhlov pohľad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potrháte fotografiu a rozbijete hologram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 V čom sa líšia </a:t>
            </a:r>
            <a:r>
              <a:rPr b="0" lang="sk-SK" sz="26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zostatky</a:t>
            </a:r>
            <a:r>
              <a:rPr b="0" lang="sk-SK" sz="2600" spc="-1" strike="noStrike">
                <a:solidFill>
                  <a:srgbClr val="000000"/>
                </a:solidFill>
                <a:latin typeface="Verdana"/>
              </a:rPr>
              <a:t> fotografie a hologramu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8446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cc3300"/>
                </a:solidFill>
                <a:latin typeface="Verdana"/>
              </a:rPr>
              <a:t>L</a:t>
            </a:r>
            <a:r>
              <a:rPr b="1" i="1" lang="sk-SK" sz="2000" spc="-1" strike="noStrike">
                <a:solidFill>
                  <a:srgbClr val="000000"/>
                </a:solidFill>
                <a:latin typeface="Verdana"/>
              </a:rPr>
              <a:t>ight </a:t>
            </a:r>
            <a:r>
              <a:rPr b="1" i="1" lang="sk-SK" sz="2000" spc="-1" strike="noStrike">
                <a:solidFill>
                  <a:srgbClr val="cc3300"/>
                </a:solidFill>
                <a:latin typeface="Verdana"/>
              </a:rPr>
              <a:t>A</a:t>
            </a:r>
            <a:r>
              <a:rPr b="1" i="1" lang="sk-SK" sz="2000" spc="-1" strike="noStrike">
                <a:solidFill>
                  <a:srgbClr val="000000"/>
                </a:solidFill>
                <a:latin typeface="Verdana"/>
              </a:rPr>
              <a:t>mplification by </a:t>
            </a:r>
            <a:r>
              <a:rPr b="1" i="1" lang="sk-SK" sz="2000" spc="-1" strike="noStrike">
                <a:solidFill>
                  <a:srgbClr val="cc3300"/>
                </a:solidFill>
                <a:latin typeface="Verdana"/>
              </a:rPr>
              <a:t>S</a:t>
            </a:r>
            <a:r>
              <a:rPr b="1" i="1" lang="sk-SK" sz="2000" spc="-1" strike="noStrike">
                <a:solidFill>
                  <a:srgbClr val="000000"/>
                </a:solidFill>
                <a:latin typeface="Verdana"/>
              </a:rPr>
              <a:t>timulated </a:t>
            </a:r>
            <a:r>
              <a:rPr b="1" i="1" lang="sk-SK" sz="2000" spc="-1" strike="noStrike">
                <a:solidFill>
                  <a:srgbClr val="cc3300"/>
                </a:solidFill>
                <a:latin typeface="Verdana"/>
              </a:rPr>
              <a:t>E</a:t>
            </a:r>
            <a:r>
              <a:rPr b="1" i="1" lang="sk-SK" sz="2000" spc="-1" strike="noStrike">
                <a:solidFill>
                  <a:srgbClr val="000000"/>
                </a:solidFill>
                <a:latin typeface="Verdana"/>
              </a:rPr>
              <a:t>mission of </a:t>
            </a:r>
            <a:r>
              <a:rPr b="1" i="1" lang="sk-SK" sz="2000" spc="-1" strike="noStrike">
                <a:solidFill>
                  <a:srgbClr val="cc3300"/>
                </a:solidFill>
                <a:latin typeface="Verdana"/>
              </a:rPr>
              <a:t>R</a:t>
            </a:r>
            <a:r>
              <a:rPr b="1" i="1" lang="sk-SK" sz="2000" spc="-1" strike="noStrike">
                <a:solidFill>
                  <a:srgbClr val="000000"/>
                </a:solidFill>
                <a:latin typeface="Verdana"/>
              </a:rPr>
              <a:t>adiation = zosilnenie žiarenia podmienenou emisi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zostatky</a:t>
            </a:r>
            <a:r>
              <a:rPr b="0" lang="sk-SK" sz="3400" spc="-1" strike="noStrike">
                <a:solidFill>
                  <a:srgbClr val="000000"/>
                </a:solidFill>
                <a:latin typeface="Verdana"/>
              </a:rPr>
              <a:t> hologram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Rekonštrukcia hologramu z Polohy 0 a z Polohy 5"/>
          <p:cNvPicPr/>
          <p:nvPr/>
        </p:nvPicPr>
        <p:blipFill>
          <a:blip r:embed="rId3"/>
          <a:stretch/>
        </p:blipFill>
        <p:spPr>
          <a:xfrm>
            <a:off x="611280" y="1765440"/>
            <a:ext cx="763272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Verdana"/>
              </a:rPr>
              <a:t>Laser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1693800"/>
            <a:ext cx="4248360" cy="2959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8000" y="4670280"/>
            <a:ext cx="417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images.google.sk/imgres?imgurl=http://br.geocities.com/saladefisica5/leituras/holografia40.gif&amp;imgrefurl=http://br.geocities.com/saladefisica5/leituras/holografia.htm&amp;h=374&amp;w=463&amp;sz=8&amp;hl=sk&amp;start=5&amp;tbnid=4RS7mzFTPx1VwM:&amp;tbnh=103&amp;tbnw=128&amp;prev=/images%3Fq%3Dholografia%26gbv%3D2%26hl%3Dsk%26client%3Dfirefox-a%26rls%3Dorg.mozilla:sk:official%26sa%3D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7398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Verdana"/>
              </a:rPr>
              <a:t>Záznam hologramu</a:t>
            </a: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: z lasera (A) vychádza úzky zväzok lúčov, ktorý sa na polopriepustnom zrkadle  (B) rozdelí na dva zväzky. Predmetový zväzok (D) je odrazený od zrkadla (E) a usmernený do rozptylnej šošovky (F) a dopadá na predmet (G), na ktorom sa difúzne odráža k holografickej platni (H). Druhý zväzok, referenčný (C), vznikne odrazom od polopriepustného zrkadla (B) a ďalej je odrazený od zrkadla (E) a potom usmernený do rozptylnej šošovky (F), ktorou je rozšírený a tiež dopadá na holografickú platňu (H). Výsledné interferenčné pole možno zaznamenať na holografickú platňu alebo film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09:49:29Z</dcterms:created>
  <dc:creator>učiteľ</dc:creator>
  <dc:description/>
  <dc:language>en-US</dc:language>
  <cp:lastModifiedBy>sz</cp:lastModifiedBy>
  <dcterms:modified xsi:type="dcterms:W3CDTF">2008-11-26T18:17:49Z</dcterms:modified>
  <cp:revision>16</cp:revision>
  <dc:subject/>
  <dc:title>Elektrónový obal atómu</dc:title>
</cp:coreProperties>
</file>